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D39-058D-4C60-A483-11A22792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140-6D2A-44B2-AD0A-DFFF1ACF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FBE72-95BD-47B9-A7A0-DF5AF775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61304-C081-4060-A959-4ED7006F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B337A-B3B3-48A3-BD49-87CCE8B5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1441A-C047-4003-BEE6-19821D26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9F711-9A58-424A-B59E-1CA8B05D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83CE7-3A39-4152-84A7-27246BDB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2A719-ABEE-436E-B6C2-587622C9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4403A-C955-47DF-93BC-9C36C392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3872D-565A-4BDE-9E9A-B568B75A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9DD3C-3C5D-4F3C-934B-0C9B8377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89A-EB20-4998-B418-492C45EB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42278-47C3-49B1-B524-DEF7CA5E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325A2-E071-4AB3-8A83-84FC0B6E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482A9-3646-48B7-AEC4-07001B39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13089-6BED-47A3-9933-A5E32CC4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D06FD-6125-41EA-84A3-C17000F5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4FD1F-5D73-4708-AF9B-944C71E8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94B7E-0176-4F34-A4A4-66B44937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028FF-C37A-40E7-B91A-2231D89B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B2FDF-4240-4F63-96A9-9BA095C9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8B681-645D-4B39-934A-7137B05D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ADB-8E7E-4014-B76A-205BC07A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006A9-4860-4365-9426-C4FC22B2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F1FCE-D716-4D1C-814B-A49A3FA4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755E3-6BEB-45E4-8090-DF7D094E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B393E-BB93-4C6A-817F-3589395A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5A67A-6140-4F05-8FC2-C34908E6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0D950-1ECB-4080-9250-AEC4F0B7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0B07A-CC0F-459F-8FB4-4EF3BB5D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A6E88-A074-4FF1-8CFD-29A1A90E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64046-5BAA-4F68-9B5A-3BC4DA49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9ACD8-8B32-46A8-B4CD-CC3760F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CFEE-9DA8-4047-90CD-09C68907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76965-F47A-46C6-9720-041EA06D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723B1-177B-44AF-9725-AD178C43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C3765-23B9-4461-96D0-97DCA69D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A8D5A-E65A-4084-BFC7-5BEB67A5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B0886-B52A-49E4-A44D-2D629902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484EA-766D-4737-8BBD-18BD7207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E321E-E9EE-4576-9B33-1F8CF183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10439-5348-4142-A9F0-83A43281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F53CB-9C53-4141-A027-D3B209AD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51A9E-D995-4582-A85A-83850BB9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7DA4-FA59-4490-9D73-E5C6D2B8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C07B5-1CFB-40C0-8221-3F6E18C8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44436-AA55-4BFC-88DD-37A334C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A9F37-6918-4905-A7D5-51E142E9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7318D-2AF1-4762-A9CB-A2BD0AA0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FE010-E9E0-4CD9-9FB0-BADC46FD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F003-A768-4B83-B764-FDE53D8B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F09A-3CBC-4C94-A90B-C11B2AD6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0FF5-635C-485B-90D0-0930A6D7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18A9-70AC-4F49-BE77-153A124A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5175-61C5-4044-850D-3AA45858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A31-E445-4616-B7D5-F9AAABA3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38B1-27E0-4BDD-AF16-3FDF9B4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A176-5199-42A6-A051-840A047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CD4D-2E4C-4D28-A2E9-CF62DABB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BF90-ED30-4947-A60B-E9B69332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8A23-1A18-49DB-8144-7350A0C3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6C99-B128-4833-AE26-DDA468D2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E86E-2C93-4926-9BBB-8FAA9438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A5BE-503E-475C-85F3-34561E94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4261-D280-42B3-916A-B71AC1D1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ABE5-2FFF-4A1F-BA0B-8BA98A35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CDC-3C65-41E3-BCE2-1B199080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BA21-FD82-4485-B345-0B26808D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295C-B9F2-45CD-A2F3-D0BE4DC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4052-9929-4FA2-B23D-133007CC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141B0-6C61-45DA-811B-446686A6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564B-7575-468C-92F3-04242A58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BEF9-3311-44FE-B4DC-CA9844A0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454BD-E857-426E-A771-38E045BF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C896-C0CB-4F54-B675-6A224149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0DAE4-5857-49EF-8111-06D50A77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3C19F-8FA2-46BC-BDD6-AD8DC22D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151-95DF-44B9-A926-B3DD4A59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D1BC-5D40-47FE-94F8-B3621F82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2168-FEA5-4B23-96BE-699501A3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6C400-E674-4DBC-84CB-4127DA85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BB77F-E858-4290-950B-C6C59201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B275-2F9C-4604-B70D-7D074000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FE51-D0CE-42F7-BDC5-A5CAC7A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AE053-A454-4FBB-8F5B-9E3D71BA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DDCD1-3DBF-4618-B6F2-A4A25C60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15E91-D1DE-4F49-8114-93E249E4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68A6-DEB7-4FCB-B782-93F15DAA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037-02AD-413E-AE50-B80164F2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408DF-AD45-493B-90AA-AC50FC1E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90F0-21C1-45E7-B09E-C7391270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5C8DB-4F0D-432F-BC6E-D181B5E3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50F3D-8C71-4B89-97E9-5D9D1310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FE6E7-D404-47C3-BBF8-B3621F3A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B0724-DD42-41DE-BEDC-CD7842B4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8BC34-DF13-4A56-8D28-EB8A7840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FF37-6FB3-4892-92FB-9B1C8B8D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D0F14-1BF1-47E6-AB39-8B61EA9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E711-CD2F-451C-B5CD-D221F72A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DA0-E7A4-4C9E-930C-4D51FEFB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641A1-71E3-4D4E-A247-33C3838C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959D-2BA1-46D2-94A5-B66D1F9F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91E2E-EF5A-4B13-9B2D-95F3B3A0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754F3-5DB2-48DD-BFCF-08E0553F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724E3-B85B-4EA3-93AA-FE55EFF6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FA4F8-3EB1-415B-8196-51EAA88D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36585-BF7E-4266-B6DB-8FF9057B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449A8-B37C-4096-951A-185DDAA3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D855-475A-4A6C-9738-AE1DC425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E715-4068-41CE-A657-FB44AA4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60C-AE7C-438C-9B6D-77BC1C00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112CD-1A05-4BDF-9E58-40FC4315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20CEA-A0F0-4749-B160-CBCA4CCF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7FD59-AEF3-48D6-8CC9-A7B27EBD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13A0-AF4B-4EE0-9625-67B585F4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2080C-0253-4A39-8DC0-4E2D65FF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B3439-B649-4E5E-99FB-4CB38E01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D0DD6-A5F2-4901-BA6C-77C4EDD2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07D36-6116-48A6-910C-5C9D87D0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CB0C8-A154-4E8E-9916-E08C2A54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02DCF-6676-41BB-A566-E7FAE9D1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CD1-0E24-4A32-A64E-3A61F1D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89FEF-FBEF-4C62-BCF8-02A153D0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6DE5D-EE95-4DC3-80A1-B5B8F06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89146-47F9-4AD4-B3ED-9E68D6D7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6CE54-58EB-472B-8E68-E32610A1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D38A-0D87-4739-BF59-7C8F5641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3C1F2-2B44-45BB-BFE8-E0AF5DC8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DE1CF-B84E-4260-B871-1E541C2D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7C57C-BEA1-4215-81A3-4F050A09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EE706-58D7-4CA7-AD8F-E0BD52E0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E852D-2180-4A88-85DA-260C5070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6CF-60B3-429E-BDE8-C9B4F60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4DE63-3850-4256-B228-1AC8487F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2513A-2564-4F30-AF84-06FB934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6E4C2-2D30-4359-A7E0-B9181A83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DC4F6-D624-4EF5-B7CA-7E49E9D8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05909-83EF-42FA-8463-14087DED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716F3-F5FC-4757-AC93-A8041CAB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57ADA-F7C7-4C0D-A8E0-1551E44A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48146-5FC3-477E-BAB5-66E7A756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0F9F9-1FBA-443E-8448-C22FFB2A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AB5C3-84EE-4447-BBB3-4703C785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0EB7-9C5A-44A6-AEB3-D8C8302C30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F053-B832-4823-95EF-A455EEDA709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DFF3-2815-4CC8-AD9A-9BABC0F6B7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A9EC-DA6E-427C-ABE9-4D45CA05D2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869A-D4CD-4FD1-9708-36F159DF70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7B5B-3221-4F6E-A6CB-C21D3B76DB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E376-D3C1-4CD6-BB03-C853AA50C3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0A2C-9408-4C47-B275-4D509E0B27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4299-0104-4F84-B3D9-931E77B24B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8CDB-CA53-4AAA-81C7-9B52286460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9A32-47F6-43AF-85EB-53D98B6E87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48F3-7D92-4FD5-BEA6-AA378D4E67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36 Kristov kr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je moja spás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Len pri kr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 J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šov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okoj stály nachádz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án ma teší svojím Slov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vot dá mi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ristov kr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je moja sp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oja nádej, ochra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ku kr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 utiekam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lím zvodom sat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ba s Pánom mô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m obst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prudkých búrkach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v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d neho len pomoc dost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je vôkol mrákota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Len pri kr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 J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šov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okoj stály nachádz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án ma teší svojím Slov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vot dá mi sá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é bremeno som nieso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úskalím tých bludných cie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eraz viem,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 sám 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nie som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e ma Pán môj chce v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dy vies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n ma chráni rukou svoj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ilu dáva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d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musím sa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boj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 jeho pomoc dúf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mie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Len pri kr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 J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šov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okoj stály nachádz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Pán ma teší svojím Slov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ý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vot dá mi sá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Ježišo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trach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ô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strác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izne všetka pochybn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do srdca sa radosť vrac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jemu vďačím za m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emučí už dušu ties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na kríž sa pozer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ána chváli moja pies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n mi dáva pokoj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01:30Z</dcterms:modified>
  <cp:revision>23</cp:revision>
  <dc:subject/>
  <dc:title>Je veľký náš Pán, on slávy je Kráľ Nech do všetkých strán  spev vrúcnych znie chvál.</dc:title>
</cp:coreProperties>
</file>